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gif" ContentType="image/gif"/>
  <Override PartName="/ppt/media/image9.jpeg" ContentType="image/jpeg"/>
  <Override PartName="/ppt/media/image10.gif" ContentType="image/gif"/>
  <Override PartName="/ppt/media/image8.wmf" ContentType="image/x-wmf"/>
  <Override PartName="/ppt/media/image13.png" ContentType="image/png"/>
  <Override PartName="/ppt/media/image16.gif" ContentType="image/gif"/>
  <Override PartName="/ppt/media/image14.jpeg" ContentType="image/jpeg"/>
  <Override PartName="/ppt/media/image18.png" ContentType="image/png"/>
  <Override PartName="/ppt/media/image15.gif" ContentType="image/gif"/>
  <Override PartName="/ppt/media/image1.png" ContentType="image/png"/>
  <Override PartName="/ppt/media/image2.wmf" ContentType="image/x-wmf"/>
  <Override PartName="/ppt/media/image3.png" ContentType="image/png"/>
  <Override PartName="/ppt/media/image17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F5A7-46D3-432C-ADE7-361743FA3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5A7C-0926-4347-BE39-698D3BBBE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3C66-0E93-4D22-9EFA-13F3203A9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004A-6BB6-4137-A8CE-EB5555466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4B49-9924-4FBE-8AB6-94FA2AB40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E512-717B-4898-AA7D-600414888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B740-4C93-4B3E-8CB1-D58699BA2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7CB4-F33C-492A-A455-0DEDE36A1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EFD9-47A3-4721-9F52-ECCF7A556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55B5-B147-430E-96E6-7B441AD60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7B51-AD7F-46E6-8182-8800FF94A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BA8B-8755-40C6-9A96-535F8B18C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1A998-E95C-4182-8CA3-BA4FA327273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5.gif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image" Target="../media/image10.gif"/><Relationship Id="rId4" Type="http://schemas.openxmlformats.org/officeDocument/2006/relationships/image" Target="../media/image10.gif"/><Relationship Id="rId5" Type="http://schemas.openxmlformats.org/officeDocument/2006/relationships/image" Target="../media/image11.gif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547640" y="333360"/>
            <a:ext cx="5688360" cy="2665080"/>
            <a:chOff x="1547640" y="333360"/>
            <a:chExt cx="5688360" cy="2665080"/>
          </a:xfrm>
        </p:grpSpPr>
        <p:pic>
          <p:nvPicPr>
            <p:cNvPr id="42" name="" descr=""/>
            <p:cNvPicPr/>
            <p:nvPr/>
          </p:nvPicPr>
          <p:blipFill>
            <a:blip r:embed="rId1"/>
            <a:stretch/>
          </p:blipFill>
          <p:spPr>
            <a:xfrm>
              <a:off x="1547640" y="333360"/>
              <a:ext cx="5688360" cy="263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2707560" y="2173320"/>
              <a:ext cx="31572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ff99"/>
                  </a:solidFill>
                  <a:latin typeface="Arial"/>
                </a:rPr>
                <a:t>Lesson 10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"/>
          <p:cNvSpPr/>
          <p:nvPr/>
        </p:nvSpPr>
        <p:spPr>
          <a:xfrm>
            <a:off x="395280" y="3141720"/>
            <a:ext cx="820908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Make Your Garden Grow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971640" y="2060640"/>
            <a:ext cx="727380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Language points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50920" y="266760"/>
            <a:ext cx="8713800" cy="640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consider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v.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仔细考虑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;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认为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;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觉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You do have to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consider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the feelings of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those around you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你真的得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仔细考虑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你身边那些人的感受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Take whatever measures you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consider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bes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采取任何你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认为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最好的措施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What do you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consider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to be your greates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succes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你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认为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什么事是你取得的最大成就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500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00"/>
                                        <p:tgtEl>
                                          <p:spTgt spid="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50920" y="174600"/>
            <a:ext cx="8713800" cy="53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test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v. &amp; n.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测验；考查；实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Out of a total of 25 students only 15 passed the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test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所有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5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个学生中只有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个通过了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测试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It is a fact that holidays are a major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test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of any relationship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这是事实，节假日是对任何情感关系的重大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考验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His work is to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test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out new designs of cars before they are put on the marke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他的工作是在新设计的汽车投入市场之前对它们进行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检验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500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0920" y="260280"/>
            <a:ext cx="8713800" cy="50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make sure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确定；确信；务必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Make sure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you have the truth on your side, and that your idea makes sens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要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保证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让真相站在你这一边，这样你的见解才能站得住脚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Make sure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your relationship has room for give and tak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请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确信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你们的关系有索取和给予的空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5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50920" y="260280"/>
            <a:ext cx="8713800" cy="546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water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n.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水    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vt.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使湿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;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给…浇水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He went out to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water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the plant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他出去给植物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浇水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He pushed me, and I fell into the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water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他推了我一下，我便掉到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水里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去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You must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water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the garden, it’s very d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你得给园子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浇浇水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太干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8" dur="5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500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50920" y="260280"/>
            <a:ext cx="8713800" cy="60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keep…away from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使……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.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远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We should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keep away from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cigarette and keep health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我们应该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远离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烟草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保持健康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Don’t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keep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running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away from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lif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别总是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逃离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生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Do not forget to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keep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1. 2m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away from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the subjec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别忘了同被摄物体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保持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.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米的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距离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9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2" dur="5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00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50920" y="260280"/>
            <a:ext cx="8713800" cy="50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6.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take care of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照顾；照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If he has relatives, I hope they can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take care of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hi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如果他有亲戚，我希望他们可以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照顾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这个孩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Each family member can help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take care of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the famil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每一个家庭成员都能帮助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照顾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家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0" dur="5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3" dur="5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50920" y="260280"/>
            <a:ext cx="8713800" cy="57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7.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best of all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更好的是；更重要的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It is not possible to have the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best of all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world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你不可能拥有世界一切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最好的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东西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best of all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, there are no side effect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最好的是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它们都没有副作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I make telephone calls. I exercise, but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best of all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, I'm outsid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我遛狗，打电话，锻炼，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最重要的是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这些都在室外进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1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4" dur="5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7" dur="500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413080" y="684360"/>
            <a:ext cx="4464000" cy="873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2703960" y="771480"/>
            <a:ext cx="385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33cc"/>
                </a:solidFill>
                <a:latin typeface="Times New Roman"/>
              </a:rPr>
              <a:t>Time for refl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2060640"/>
            <a:ext cx="4392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                 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make s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              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think abo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                     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get in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keep…away fr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              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take care o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                  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best of 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076720" y="2205000"/>
            <a:ext cx="3706920" cy="39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确保；确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考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进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使远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照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更好的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4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9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4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9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4" dur="5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9" dur="500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826920" y="549360"/>
            <a:ext cx="4106880" cy="50464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6659640" y="3860640"/>
            <a:ext cx="1279440" cy="12924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5435640" y="2708280"/>
            <a:ext cx="3240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注：另附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文档，点此链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1413000"/>
            <a:ext cx="2952720" cy="52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nsi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unl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mpo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ear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quirr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urp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95640" y="1413000"/>
            <a:ext cx="5148360" cy="52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v.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仔细考虑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;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认为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;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觉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n.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阳光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;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日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v. &amp; n.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测验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;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考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n.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混合肥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adj.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干的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v.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使干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;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变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adv.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在附近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;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不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n.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松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n.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栅栏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;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篱笆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;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围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n.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目的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;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目标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;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意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692360" y="0"/>
            <a:ext cx="5832360" cy="12682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556000" y="260280"/>
            <a:ext cx="45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99"/>
                </a:solidFill>
                <a:latin typeface="Times New Roman"/>
              </a:rPr>
              <a:t>Words &amp; 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447840" y="338040"/>
            <a:ext cx="822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Ⅰ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.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Choose the correct answers to complete the sentenc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19120" y="1633680"/>
            <a:ext cx="8229600" cy="47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efore you plant a garden, you should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consider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or ____ carefully about something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. look                   B. thin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 The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purpose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means the ____ for somethi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. reason                B. ti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284720" y="3645000"/>
            <a:ext cx="696960" cy="6206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826920" y="5661000"/>
            <a:ext cx="696960" cy="6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468360" y="333360"/>
            <a:ext cx="8227800" cy="626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. The engineer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tests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machine to ____if it works wel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heck                 B. ma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. You can put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compost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in your garden to ______ the soi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nrich                 B. incre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. If something is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nearby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 it is only a ____ distance away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. long                     B. sho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24000" y="1916280"/>
            <a:ext cx="696600" cy="620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250920" y="3933720"/>
            <a:ext cx="696960" cy="6206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4067280" y="5950080"/>
            <a:ext cx="696960" cy="6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58760" y="193680"/>
            <a:ext cx="8661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79280" y="189000"/>
            <a:ext cx="8713800" cy="57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Ⅱ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. Fill in the blanks with proper word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. The administration continues to _________ ways to resolve the situation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政府继续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仔细考虑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解决这种情况的办法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. Her wrinkles showed up in the strong _____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她的皱纹在强烈的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阳光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下很显眼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3. He has stood up to the ___ of his honest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他已经通过了这次对他是否诚实的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考验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95280" y="1413000"/>
            <a:ext cx="19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onsi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4000" y="3357720"/>
            <a:ext cx="232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unl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76720" y="465300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31840" y="338040"/>
            <a:ext cx="8912160" cy="51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4. You can make ________ from food waste at home with or without the help of worm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你可以在家使用食物垃圾来制作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堆肥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蚯蚓有无皆可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5. So_____ _____you do things on tim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所以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一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要按时做该做的事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6. ________ _______ what you could do with that extra tim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想一想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你可以利用空闲的时间来做些什么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708360" y="404640"/>
            <a:ext cx="19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ompo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332000" y="2852640"/>
            <a:ext cx="22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make s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55640" y="4149720"/>
            <a:ext cx="34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hink       abo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79280" y="189000"/>
            <a:ext cx="8964720" cy="51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7. Russia has long wished to _____ the West ______ _____ its backyar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俄罗斯长久以来都渴望让西方国家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远离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他的后院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8. We have the duty to ___ ____ __ the earth for ourselves and for our later generation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我们有责任为我们自己和我们的后代去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照顾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好地球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9. _____ ___ ____, the service is fre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最好的方法是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这种服务是免费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867280" y="260280"/>
            <a:ext cx="117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kee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50920" y="83664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way   fr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643280" y="270828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ake care o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84360" y="5300640"/>
            <a:ext cx="304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Best    of     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3132000" y="693720"/>
            <a:ext cx="295272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Narrow"/>
              </a:rPr>
              <a:t>Preview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Narrow"/>
              <a:ea typeface="Arial Narrow"/>
            </a:endParaRPr>
          </a:p>
        </p:txBody>
      </p:sp>
      <p:sp>
        <p:nvSpPr>
          <p:cNvPr id="111" name=""/>
          <p:cNvSpPr/>
          <p:nvPr/>
        </p:nvSpPr>
        <p:spPr>
          <a:xfrm>
            <a:off x="1258920" y="2492280"/>
            <a:ext cx="7559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Learn the words and phrases i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Lesson 11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Underline the sentences you don’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Understand on page 26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26920" y="2781360"/>
            <a:ext cx="432000" cy="431640"/>
          </a:xfrm>
          <a:prstGeom prst="star5">
            <a:avLst/>
          </a:prstGeom>
          <a:solidFill>
            <a:srgbClr val="cc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26920" y="4149720"/>
            <a:ext cx="432000" cy="431640"/>
          </a:xfrm>
          <a:prstGeom prst="star5">
            <a:avLst/>
          </a:prstGeom>
          <a:solidFill>
            <a:srgbClr val="cc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948360" y="549360"/>
            <a:ext cx="1656000" cy="15112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468360" y="549360"/>
            <a:ext cx="165564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4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7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2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5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564000" y="620640"/>
            <a:ext cx="3352680" cy="11289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1619280" y="0"/>
            <a:ext cx="1886040" cy="25146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755640" y="2492280"/>
            <a:ext cx="806436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rite a passage about what you want to plant in your garden. (50-100 word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11280" y="409680"/>
            <a:ext cx="79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ff3399"/>
                </a:solidFill>
                <a:latin typeface="Times New Roman"/>
              </a:rPr>
              <a:t>How to maintain your garden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99"/>
                </a:solidFill>
                <a:latin typeface="Times New Roman"/>
              </a:rPr>
              <a:t>          </a:t>
            </a:r>
            <a:r>
              <a:rPr b="1" lang="zh-CN" sz="3600" spc="-1" strike="noStrike">
                <a:solidFill>
                  <a:srgbClr val="ff3399"/>
                </a:solidFill>
                <a:latin typeface="Times New Roman"/>
              </a:rPr>
              <a:t>《如何打理你的花园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332000" y="1916280"/>
            <a:ext cx="6480000" cy="38890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rcRect l="65707" t="17732" r="23228" b="66537"/>
          <a:stretch/>
        </p:blipFill>
        <p:spPr>
          <a:xfrm>
            <a:off x="6804000" y="4724280"/>
            <a:ext cx="1008000" cy="10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179280" y="260280"/>
            <a:ext cx="34560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6699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Think about it!</a:t>
            </a:r>
            <a:endParaRPr b="1" lang="en-US" sz="1800" spc="1" strike="noStrike">
              <a:ln w="12600">
                <a:solidFill>
                  <a:srgbClr val="ff6699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500720" y="0"/>
            <a:ext cx="1150920" cy="10717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39640" y="1268280"/>
            <a:ext cx="7848720" cy="22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 Do you like gardening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 What is fun about growing a garde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050920" y="3213000"/>
            <a:ext cx="504036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732720" y="333360"/>
            <a:ext cx="1584360" cy="10875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39640" y="1773360"/>
            <a:ext cx="7848720" cy="40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 To listen and understand the passag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 To learn some useful words and expressions about how to grow a gard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987640" y="765000"/>
            <a:ext cx="2808360" cy="642600"/>
          </a:xfrm>
          <a:prstGeom prst="rect">
            <a:avLst/>
          </a:prstGeom>
          <a:solidFill>
            <a:srgbClr val="00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7380360" y="5516640"/>
            <a:ext cx="1438200" cy="100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11280" y="692280"/>
            <a:ext cx="6985080" cy="11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Words: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consider, test, dry, purp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11280" y="2060640"/>
            <a:ext cx="8064360" cy="18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Phras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make sure, keep…away from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best of all,  take care o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rcRect l="0" t="0" r="0" b="22623"/>
          <a:stretch/>
        </p:blipFill>
        <p:spPr>
          <a:xfrm>
            <a:off x="7380360" y="620640"/>
            <a:ext cx="1152360" cy="9637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611280" y="4941720"/>
            <a:ext cx="54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have fun doing st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4292640"/>
            <a:ext cx="227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Pattern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79280" y="189000"/>
            <a:ext cx="8569440" cy="57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99"/>
                </a:solidFill>
                <a:latin typeface="Times New Roman"/>
              </a:rPr>
              <a:t>Read and answ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do most plants need to grow wel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Sunligh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 What is the best food for pla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Compos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. Why is water important for pla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Plants need water to grow strong and   stay health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79280" y="189000"/>
            <a:ext cx="8569440" cy="64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. Why do you need to make a fenc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It can help keep these small animals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away from your gard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3600" spc="-1" strike="noStrike">
                <a:solidFill>
                  <a:srgbClr val="ff3399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’s the whole purpose of growing a   garde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To have fu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6. What do you need to consider to grow a good garde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You need to consider sunlight, soil, water, a fence and having fu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50920" y="0"/>
            <a:ext cx="86421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Read the lesson again and write true (T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or false (F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efore we begin gardening, there are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any things we need to consider. (    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 Few plants need a lot of sunlight to grow well.                                                   (    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. Sometimes there is not enough rain, and the garden gets dry.                         (    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. A fence can help keep small animals away from your garden.                  (    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. Getting exercises is the whole purpose of growing a garden.                             (    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7524720" y="1700280"/>
            <a:ext cx="552600" cy="5713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596360" y="2852640"/>
            <a:ext cx="552240" cy="571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7596360" y="3933720"/>
            <a:ext cx="552240" cy="5716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7667640" y="5013360"/>
            <a:ext cx="552600" cy="5713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7740720" y="6021360"/>
            <a:ext cx="552240" cy="5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5T13:44:52Z</dcterms:created>
  <dc:creator/>
  <dc:description/>
  <dc:language>en-US</dc:language>
  <cp:lastModifiedBy>PCoS</cp:lastModifiedBy>
  <dcterms:modified xsi:type="dcterms:W3CDTF">2014-03-05T13:45:10Z</dcterms:modified>
  <cp:revision>1</cp:revision>
  <dc:subject/>
  <dc:title>幻灯片 1</dc:title>
</cp:coreProperties>
</file>